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F52-080A-4DAE-ADA4-541DFD06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4CD-8917-4EEE-AE00-1E486BE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56FFA-902F-4535-9A2F-C5915072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4FDA-9273-44B6-B2ED-D13A1E25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78C3-C567-4F5E-9BC3-52266C6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66E1C-19B7-4800-9594-EDAA259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20125-941B-4F3C-97FD-46AAEC40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19F4-EF62-44CA-829A-C3B0A4A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ABD9-91C1-46BF-8D9F-E399C04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A6480-5410-4479-B4F5-5CBD43D9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3C895-DB7E-420A-844E-DCF1DBDE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7909B-44CB-4546-AE99-81CEA9C4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6C7-32B0-4985-AC0F-6833923C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108B-088E-4701-A2B4-7974C14C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89B3-9DA4-455B-ACC1-2664A723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BC0E7-30E3-4EF9-B762-0C56932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02D8-2420-40ED-9F9A-39BC942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8843-5FF7-48DD-8DB7-452BD2AB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89797-DF86-4904-A990-555AC9E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9242-3E7C-436F-82BA-0C8E947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2C32-BAC0-4536-9247-EE6853D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57FB7-52CA-4283-B69F-053E62F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7F798-2B4A-4A1D-A422-F302203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D1E-B53B-4952-B481-AAD92128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4311C-42FB-449D-B4CF-FA96599C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F96E-B0B8-4E4C-967E-4425A7DB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EB43D-A698-478E-BDAB-63E922B1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A5F3A-71EA-43E3-A545-8C315E45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02077-D402-4129-AB79-36E4A34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3E93D-8ADB-4E4B-B117-F8A8774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81F8-1669-4A51-8072-520A5655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C0C5-9520-445F-AC0B-48251B8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8FE15-5A59-4FC7-B859-2BE0B7C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12B73-C7F0-4532-A2D5-974170B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B3A-E761-45CF-B562-E7EC17FC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B935-7722-4BA7-9F85-BCAB40DA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24E9A-DD54-4424-94D0-6B69F746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5269-2FC1-45C1-8180-84855A0C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3371F-F3DC-4A64-AC68-725179A5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F3DB4-6368-467E-87EB-6070ED9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AC7FD-8E83-4D1C-9311-36A4E9C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9662A-8891-4D0B-BF61-7157142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8BA1D-649C-4D11-BEB1-3564A47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D1916-2D24-4B8A-B1C1-58F39DD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AEAA9-55F5-41E6-B3B6-4E3353F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774-6CF3-4BB6-8DF6-6FB5E923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A5239-E376-4864-873D-99E77A2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DF28-B0DB-4848-A657-D8039B9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E3E71-8B0B-486A-990C-3597473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4F3E-0A67-4EB1-80EC-02EA3A9B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8F190-2857-42F5-AB13-CB844298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34793-C8A5-4B46-818C-534C94C1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86248-EC62-46B9-95DE-7517EC0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7B32B-6A7D-476B-B569-217951E5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17264-4004-43F9-B9A4-58F744F9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E44AF-0B21-4358-BF54-5FDAA56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11CA-EDD9-499F-BA6C-7063D74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AB289-AD9E-4FBD-BD0A-42CA0CB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DE296-B332-4BDB-AC38-6D991A8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6BC09-B4D5-4B84-8420-35D028B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5E72C-6577-47B9-989A-58E847F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EA236-AF52-479C-B866-31560B56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BA8B7-FD28-4886-B92D-9A5D4E66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8FF2-1654-404D-A925-EF86B06A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74E48-F39D-4A24-991F-3D816133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84B48-9592-458C-B064-953FFED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29D47-E008-4DFC-AACE-B9A7BD3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5F8-A4CA-452B-B3C6-69DDEAC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6332B-C319-4C07-B3B5-901E19C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FDD8C-C943-4CCD-9A79-4E453D6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328E9-A312-493A-B8FE-19FF197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C3702-7074-4C04-960D-C89AFAF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7C5E3-948D-41A8-93C3-719D3C6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D6F3B-2D32-41EC-B791-8FF19CDD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ABD2B-5079-4A34-B3B3-8F46EFFC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1D794-19CC-4FAD-A20D-AB2F0A82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5AE8E-454E-492C-8456-31A5797F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EFE49-2167-4892-BDBC-281353A9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C87-648D-4CAC-821A-A41BF3C9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90608-960D-4702-89CE-64349A4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4DDE1-9366-43AE-AE30-E91527A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0EED9-498D-4DD1-A70D-CF48BE8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863C2-F3B7-4F77-84C1-E4BE90C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E8831-B8FC-440D-968C-ACD612F0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A06FC-E6EE-469D-ACF2-7995A3C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AB641-B4E5-439D-9D68-90B6C37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1790E-C738-4D1D-A503-86832EA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1BB28-681F-4284-B2DD-441D30A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E1EC6-20AB-4FC1-8A27-7B0774F7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205-97BE-4BAD-9898-5D8D9E1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33DD7-3F73-44A3-B151-863DE707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E60C4-9C1F-4D03-925E-C00553AC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EAA83-D060-4F04-9D90-0ED10342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34705-B4F8-4517-915C-5B333E5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9C0A9-BF4C-44E9-AEA0-7998E278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5AA57-E71A-4382-8FBF-0DF96DA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96AC7-49E3-4CB6-9D54-8A32E723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9DDA8-BB3A-45E4-BAC5-A3B041C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9CFE1-4F31-4555-93DF-71B0DF20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E6FB5-0C1D-4B14-A630-4CE3B42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1F86-807D-461A-AD3D-D42091C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D8356-61B4-4719-8A12-A8EABDA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0472E-AC66-4AE3-A286-9757BE80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2BF5A-DA46-46DA-B1F0-4A5BBB18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6D971-142F-4CFE-8700-9420944A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F491E-D399-4D12-B06B-00D8B83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825FF-28F0-44C3-B199-5C15F2E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2635E-8990-4BC2-B3D6-3E14EB7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36D5C-FB91-4694-810D-0D7819BE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87820-9874-4B38-834B-93575B0D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6C777-CFE5-4A9A-9947-2ABBDA6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1A8-A7F0-4DEF-9626-2957B90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2363-6AE1-4482-9B37-849C999D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6F3AB-2279-4740-A383-1A9C4B9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8A842-3BC7-4AB2-ADF2-BC05862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EB1E2-B7A3-447E-B2A6-2D4F4655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0563F-15D3-4D3C-89C7-6032533B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3E0CA-A3CD-4BF3-B209-52D53E6E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FCF95-327A-425A-811A-AF86D4B0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5C5E6-C7C8-4B48-8D9E-CDE0628B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7ACE3-CAC1-4702-A683-3203B69A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A6F29-CEA6-49D8-9CEA-4BAFBC0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94C3C-E83C-429A-BB6A-139515E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44CF-C288-4B52-8F56-EB212A8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9D2F4-D9A7-413A-B085-3D99AA6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04CFD-85B1-499D-A896-EBAE19E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767D3-6863-41F1-92AE-65B55FC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E85A0-BCE1-4731-9C14-03E1C25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4073A-F042-4F93-AD39-E9269ED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DE699-E892-4071-A5FF-36C9ED88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9EC71-3457-43FE-8663-C8453A8C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D89FF-3676-45DB-B65E-FEB1A31C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297CD-F3A8-4DF4-88FB-C6DF65E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97C19-F9C2-488A-823D-81F768A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16D0-CB69-4F71-BC94-0CF1B573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7AC8F-5BBC-4CC4-8648-7A32C45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1CFF2-C115-4980-9DE6-BF77163F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3372F-AB31-4AAA-AF19-59A9C9F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E19A5-1196-4526-912B-21A8FCB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5C310-75DC-4985-B8D4-DF2EE5E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B7BF8-E9D4-43B3-AD50-FD319D12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68DED-060B-4F2D-B32E-16FF5A54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29A41-7704-4B2A-BF61-D49E40B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76B76-6D25-41E3-B738-ADD81FEF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80886-1B0B-4A95-9AEF-6858BBCD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FA4-8A56-407A-B035-1E2097FB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8DCA7-CAEE-46F6-89E0-9F35CA08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C1F67-AEC6-48A0-B2ED-0B84243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09893-CDA8-4969-809E-89761D0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0FF58-C3E3-4FDE-9FB0-BABC8EF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BBDA4-80FF-44DC-B194-1A8EC46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03C66-B4F2-41F3-828F-B088C43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45B7E-D207-4829-BE71-64C209A3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C62FD-EFC8-4FD7-B0A2-75CE4AC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63083-7335-4C6F-A391-B7D6A962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CAEFE-8002-4773-A665-90C8E640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C91E-B860-46D3-BBCD-76B14F43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D5B0F-67D1-4779-A1EE-B6C42649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FD110-002C-4C9D-A905-82EB4DAA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4C2BE-2B86-42A8-BD1E-27407AC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6A83E-C0B8-40B2-9F57-885DE58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764E6-DDAE-496C-89C5-F90D4A7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9881A-FB28-4463-8E45-832B92AB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DA396-83D1-47E3-BDC5-0ADAD92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641BA-045E-4C2D-8BEB-5B8AA75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6607C-12E8-4F6C-BF62-14407DE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56627-FB5C-4C31-B3CF-DC929F1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E9A7-48CD-4048-8B6E-45C2C911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97ED17-0D1D-45A0-9EA1-C65A56F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55C6C-8DC7-4BE9-94AB-9015EA64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92F2F-4021-4621-9510-9733959D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9230-C1CC-4430-BDE9-26851D7F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AF51-15DC-4A36-8B39-4D36FDBB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8990-58B7-46DE-A419-27C25A28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B7C9-1F53-43A3-A267-028A0231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1CB-DCD1-4C51-B879-8E72D6D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7831-9002-4C4C-9B4B-1628B48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456A-D820-4B5A-B2B3-A43E7A7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72B5-0180-4CC0-B4C7-E567163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873F-C817-410A-B1CB-531A7313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24EA-A246-49CC-9160-AEA87875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8D69-BAFF-48BF-A6B7-DC4F3FFD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0973-2CC4-44A2-8BC0-ACC9D1B2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DFAF-68E1-49EC-A75D-2690F10B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EFD2-6738-4F1F-89FD-EE8C1E8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282C-0817-4871-BB9D-7B0451A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45F-C8BC-4024-87AF-141316A6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0002-C750-48BF-88B4-81E38C6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1E6F-86C4-4E44-830A-B85827F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44E0-423D-4270-929C-4780A32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4C86-B240-473B-BADB-4324674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3F9C-A877-4D71-B662-A65ABC7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66FD-8F62-4F87-8B05-C9C6184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CCC4-E71B-4830-A69A-A16BB2A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4E81-DDC6-4B0F-BB1E-D4760C3B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04E2-73E4-4146-A05B-C7A79B4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8559-1E16-4E4E-B8BB-5276234F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5AF-E3B0-4354-BBFA-EE5962E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D046-A53F-4DFF-9BF5-5B80154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C17D-135E-4519-9590-10C42A8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F461-44E4-4F92-ABEA-B2681831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A9E5-35BF-4BC5-8A4C-3316C36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C5F58-2F3C-48D0-8680-2CDF5083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3A36-38DE-4D63-9BFF-1DB6DD4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0673F-5B16-4599-B036-E4F87E0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DEFB-7965-49FD-B57F-FE5D4D5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03AC-C42D-435C-B632-84BC9E04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D446-0E77-4B79-88A1-C761165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87A-0FBF-4352-8DCF-1310A1A0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493D-0BF5-42EA-BDA3-9FA558D3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10F2-F84E-4A51-AFA6-FBF5002E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6502-A269-4331-93F7-49BCF39D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2741-6597-4941-A8A0-922CBFE4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57F2-0FE0-4025-8474-A2440D14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01D4-E7CB-45E4-9C9B-0F99A87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397F-C237-4B85-B3A7-E8A88ED0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CA200-6C66-4FA4-80EA-60B9A94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5F2F-5303-4DEC-90A3-E8443FE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1685-EF83-4100-AA03-204A3F1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AA1-424B-40D1-873F-36CCA27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A1F8-91D9-41A6-AAF4-E38651B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2FA07-651E-44B3-B39A-4F09DFFD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D837-E070-47EC-9D71-91C68BB7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0B0C-AA47-4DEA-A58A-BA4BEEA2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C2822-4F0C-41F9-8561-98BA697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1DD2-0E94-4DC0-833E-2447AA0E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4C21-5AC7-4463-91ED-95E33C63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0D9E-B1C9-43EE-A377-E10354A9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BEBB-0D58-4292-9DA1-0F5AC8D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94DF-3804-4B79-A162-D19ED4F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C80-C60E-4C7B-8F70-BC4E9A32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3673-CD94-4759-9AF5-0848184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4C719-5D69-41E0-BE1D-5B2DD42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7E31-01F6-4481-8110-E716566B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AE6C-288F-4A03-BEA2-BE6E7551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87B6-EB6B-4EB2-96BC-E4BB82B7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48CC4-5193-4797-A8D9-D885F40A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290B-135A-4894-9789-93E2D92D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96A0-9B0C-4172-BDD9-6EC451B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EAE69-F279-40C1-A519-0A33230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F0EA-C347-41EB-AADA-B42F008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6A9-0C35-4C5A-AFFF-0FE8A73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A010-1E6C-4F11-BF9A-D729C391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2134-1E46-41D8-9340-EAEB140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6B1B-3FF9-4137-9593-1FEE666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BBB4-F18D-4909-B32B-9FD826B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546E-F869-4BF7-AD11-2215EBA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2B57-1D07-4B85-B5A2-ECBC7611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23BB-4143-458D-9F15-37E81C50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D603-9FCF-4C62-B877-90E13FE8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FE408-054E-4B3F-8089-B0C40D6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27F04-E40C-4067-BEC7-B49DA9B2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6D6F-C2C8-490B-9960-D0EB18761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80B-9695-46DE-BDD9-8648FCEE7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2AE-B8B0-4B09-9D33-D8E9B58B2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222C-99FD-4F5B-AD0A-764E48EBF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42F-3037-42E1-BA5C-0E4458130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0F1-30C8-4E49-9D59-39F6BE99E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DDA-B531-4D94-B69C-BF33C8ECD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4B49-5D6A-4A7B-A49D-7F930AA3D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6AE-FEE7-4C3E-B3AD-B59F87190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213E-2B90-4010-B19D-398FB60C3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ACB-8370-4976-BF68-EF434F9C2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EFB-45D4-4283-A73A-ACEEB68C7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8FEE-41B3-453A-B049-E24D92029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563-8FBD-4E1A-811B-D3A34243A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A032-6E74-43C1-AE49-12E40500E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530-FA8A-46AF-A74C-509A2293B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CEB-F4EF-4986-B8B6-7A811EB8A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945-BE25-43FF-9A96-48A813925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750A-DEDC-48D5-84A6-96E2D009A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BE16-50B4-42E4-9EB7-DB12E1898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54A-C018-44A2-9042-CBD990BAA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80FA-C07B-4595-8C5D-B050844CA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3E45-0621-4533-8C02-7455291874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3CB-B25B-4244-87BE-7EB52C3530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145-6497-4963-BDBD-48D736B2B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AF6-C8FC-406E-A498-73A171453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9A3-6760-4637-A13E-953775460B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EA4-FC94-4E3E-AEA8-D0629202E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452B-EF82-4701-85B7-E2CC9B82E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846-5EDF-4083-B735-58B500705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79A-9B43-469A-920C-A342879A8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A45A-4897-417D-8BFC-82198D623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6CE4-0AF8-4FAF-A073-951982FD2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29F-4151-4713-9251-8DED6B441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B5A-7004-4683-8F94-5499360914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FD00-EC24-4B11-A369-75A89EFC9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C6B-8E3F-4849-B363-E3FAF9E49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312-6569-44D1-AF35-8D494B349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D3F-A676-4793-89BC-FD7ACBEAF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CFB5-2BE3-467B-A6CC-F1D3755D53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4200" y="2195640"/>
            <a:ext cx="87156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957240" y="981000"/>
            <a:ext cx="7229520" cy="216216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9634" descr=""/>
          <p:cNvPicPr/>
          <p:nvPr/>
        </p:nvPicPr>
        <p:blipFill>
          <a:blip r:embed="rId2"/>
          <a:stretch/>
        </p:blipFill>
        <p:spPr>
          <a:xfrm>
            <a:off x="142920" y="3429000"/>
            <a:ext cx="8858160" cy="2305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211640" y="1239840"/>
            <a:ext cx="576360" cy="749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6756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4370400" y="2205000"/>
            <a:ext cx="9223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524720" y="2205000"/>
            <a:ext cx="92232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619280" y="3860640"/>
            <a:ext cx="9223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5219640" y="3933720"/>
            <a:ext cx="92232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8373960" y="3860640"/>
            <a:ext cx="684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1820880" y="4724280"/>
            <a:ext cx="95076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4427640" y="4724280"/>
            <a:ext cx="95076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201160" y="4724280"/>
            <a:ext cx="68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157320"/>
            <a:ext cx="8619840" cy="6543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95640" y="237816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96000" y="30686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572000" y="371628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516720" y="364500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500720" y="4365720"/>
            <a:ext cx="86328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516720" y="436572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932360" y="501336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372360" y="501336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255920" y="566100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012000" y="566100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314280" y="1623960"/>
            <a:ext cx="8515440" cy="3610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00000" y="3875040"/>
            <a:ext cx="295128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29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39640" y="452268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4500720" y="4508640"/>
            <a:ext cx="3671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328680" y="601560"/>
            <a:ext cx="8486640" cy="6067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476360" y="4164120"/>
            <a:ext cx="3600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258920" y="4811760"/>
            <a:ext cx="360036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258920" y="5516640"/>
            <a:ext cx="360036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189080" y="6165720"/>
            <a:ext cx="5111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1486080" y="2409840"/>
            <a:ext cx="6172200" cy="2038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763640" y="3789360"/>
            <a:ext cx="6624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6324" descr=""/>
          <p:cNvPicPr/>
          <p:nvPr/>
        </p:nvPicPr>
        <p:blipFill>
          <a:blip r:embed="rId1"/>
          <a:stretch/>
        </p:blipFill>
        <p:spPr>
          <a:xfrm>
            <a:off x="219240" y="909720"/>
            <a:ext cx="87055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900000" y="2128680"/>
            <a:ext cx="7344000" cy="2600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921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76120" y="243000"/>
            <a:ext cx="859176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538200" y="923760"/>
            <a:ext cx="8067600" cy="5600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908000" y="5934240"/>
            <a:ext cx="6264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2233" descr=""/>
          <p:cNvPicPr/>
          <p:nvPr/>
        </p:nvPicPr>
        <p:blipFill>
          <a:blip r:embed="rId3"/>
          <a:stretch/>
        </p:blipFill>
        <p:spPr>
          <a:xfrm>
            <a:off x="623880" y="947880"/>
            <a:ext cx="7839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7:1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